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37F-4BD2-4382-98FF-421A7FCB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D7F-8BBB-43C6-961E-118A0E63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7EC-62CF-4E04-8643-7F156701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BEE-72AC-47C5-B601-563ED67B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1845-D19D-413C-BAE4-013CB793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A5E9-C8F0-4803-82E4-9124BD6C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3545-0C65-4ECE-A5B5-F5C179D8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504A-DA42-4604-9FCA-414436A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8470-7E55-4E67-B78C-6299B421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8DCB-01C7-46D5-8498-62714E3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552D-7202-410B-B7FC-6C328C2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71F-052E-4F76-A68F-FA23A026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5384-15A5-4D2F-B648-37DE4A2E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7DB7-7712-41AC-8CF0-7DFADA68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ACBF-12C7-4F25-909D-8AF5D7CA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75FF-9619-41EF-BC22-53568061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E06C-2FC7-4290-8DB2-F1826A41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CB1D6-F5A4-4712-9C58-9DE87B36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BB261-2F0C-4B33-83B8-19AD3FDA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4B0BA-A5B5-4809-A346-92149087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26780-77CE-4B40-A449-9AE3CD08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8D3D4-7EE2-4896-AE69-08283DE3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BC6-D00E-4D5C-BEBB-5D8F7395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02BF4-41C9-429C-B140-CEA1B597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FD678-A990-4696-8AA3-2DCA7E64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2AB95-2354-43A4-AF55-0792414F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E630D-BAC9-48E2-9A3D-5E2C104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808B2-3774-47DD-9E1B-C77FC863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6489E-9510-448A-A46E-FF5618D8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F8FE3-B0D8-4D1F-93C4-47A346E7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0CF3-A44B-493D-8AD1-0714B05C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CB85-4FEB-4148-B0ED-BDABA21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62ED-6257-4600-A1B8-5CE756B8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B8F-BB71-453F-A22E-9F4F9CA4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65DE2-8458-467E-935B-045C91F3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7B648-D626-4AEE-949B-9CFBC500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678A4-857F-47C0-9313-BB2EC75C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B2C5-6417-489C-B83F-CB5699C8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44FE-F619-4033-A4FF-527BACB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7F55-2273-47E4-A077-1AFE6FA5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F7FE-767D-4600-8AD5-89826D6A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B636-C107-4C81-903C-98DD0DCD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8BBA-B40C-4A08-98FE-B68B1FD8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88B6A-B870-4F78-9664-1D35FA22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A3A-ADC3-4541-A164-E804F207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9C8C5-FF7B-45BF-98DB-232B1317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693A8-F91C-434A-88E9-7BA5D7FE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594E1-B12A-4225-9DD5-8A04980B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998DF-8297-4D2B-A442-38CD7806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B9349-C762-4F75-AAFD-5AAE21A9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27E95-D4BE-4209-BE56-9EA97A4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92E5E-FE51-4966-A515-6B9FCE9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3A5CE-646C-420B-8597-DC0D70AB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B3CD5-0C80-4A64-9A7F-AA9EFF36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4351F-E6FE-4579-98B0-467AC820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4FB-198E-4AB5-9E82-24FE4810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1918D-77A7-4DCA-80B5-62AD6BBA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75F45-0227-437D-8B60-A47898FD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B4C1B-9659-42D2-8679-90666D97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2D48F-D199-45EA-AEFE-02A38D6C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A6CB0-7940-4F75-ADDF-26863408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6D61C-683A-4678-B49A-436D4364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6BF20-AEC5-4EE6-BDD3-B057B7B5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C8902-8F12-4795-BE9A-9FE26EB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8D2C5-58BC-406B-8007-2199FC44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6FCC1-CC62-4848-999C-546145A5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19B-2CA7-4C19-9CB7-AD5CAA91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4EEFC-F583-492B-B62F-0B0FFEF4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8C21B-E33B-4D49-9CA6-EC6519A4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94ADE-623A-4F31-9AFD-42785EA6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7AC20-F8EA-4D10-B03B-6489E9D6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4456B-D95B-45E4-9929-B2CE006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E17D7-A3A1-4B73-A158-42222276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779EE-33D8-412D-9A9D-80401B92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63CAB-2428-47F9-824B-6E528E37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5FB71-234E-4280-82BF-8B354916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364582-5787-40FF-899A-6C71070B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757-172C-4517-8929-E3EBA7C0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7FCB4-FBAD-4D73-9E1F-34AE658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BD48DF-FD8D-4949-BCD9-6F134E1C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C1DD9-98F1-452F-BC5A-3FDEBA62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26283-571F-4545-A4E0-CBE6EFC6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25D79-F420-4546-A135-7BDCF151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657-EDA0-4BA7-A49B-3DCB978F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4043-34FE-46AD-B72C-288B4722624F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AC1B-4E47-47BE-A113-E7410009C6E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8117-5015-4081-8C28-BC860C36F685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2091-B3A5-425C-B261-EA020EB94B0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59C2-1EC1-4242-B49F-31A5249AB59A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3E2A-7DF0-4480-8B63-8F2CA0F9006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4D78-C799-40F5-A922-E2C6EB24A7FC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9091-2B7C-4B1E-B193-765ADEB72BC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1223-60CD-42F2-BAF4-F3665C253B60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C5E2-EDFA-4D73-BD87-E5F8E919F71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A3AE-A19E-43F1-A828-97D9C91E8166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D126-F95C-4341-8FD1-FFA4471776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20F-8456-4E55-89EB-51DD46D6F9E9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D54F-74BD-4088-B5B7-379CA99ACB6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www.aboriginalartnews.com.au/photos/colleen_wallace_nungari_dreamtime_sisters_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2004840" y="2859120"/>
            <a:ext cx="5170680" cy="217656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D9C9-3494-49E6-B968-E0F3A983798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304920" y="380880"/>
            <a:ext cx="510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chose sisters for my collected anthology. For me, sisters are so big, they help you so much. So I decided to make a tribute to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Documents and Settings\TwLab\Local Settings\Temporary Internet Files\Content.IE5\9BD1XLZZ\MPj01785250000[1].jpg"/>
          <p:cNvPicPr/>
          <p:nvPr/>
        </p:nvPicPr>
        <p:blipFill>
          <a:blip r:embed="rId1"/>
          <a:stretch/>
        </p:blipFill>
        <p:spPr>
          <a:xfrm>
            <a:off x="4800600" y="4952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TwLab\Local Settings\Temporary Internet Files\Content.IE5\ZCI6PB8U\MPj01850660000[1].jpg"/>
          <p:cNvPicPr/>
          <p:nvPr/>
        </p:nvPicPr>
        <p:blipFill>
          <a:blip r:embed="rId2"/>
          <a:stretch/>
        </p:blipFill>
        <p:spPr>
          <a:xfrm>
            <a:off x="6724800" y="129528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C:\Documents and Settings\TwLab\Local Settings\Temporary Internet Files\Content.IE5\9BD1XLZZ\MCPE02273_0000[1].wmf"/>
          <p:cNvPicPr/>
          <p:nvPr/>
        </p:nvPicPr>
        <p:blipFill>
          <a:blip r:embed="rId3"/>
          <a:stretch/>
        </p:blipFill>
        <p:spPr>
          <a:xfrm>
            <a:off x="5257800" y="0"/>
            <a:ext cx="1812960" cy="1828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2FE6-B707-420E-8E5B-1ED572450A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2506680" y="0"/>
            <a:ext cx="45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9cf7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43560" y="1676520"/>
            <a:ext cx="904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1: In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2: Why I chose s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3:Table of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4: MY SISTER by Carniz Fat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5: Sisters Forev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6:A Sist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7: 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0540-0A4E-4DC2-B304-8D7D8EAF0F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048120" y="274680"/>
          <a:ext cx="4370400" cy="6583320"/>
        </p:xfrm>
        <a:graphic>
          <a:graphicData uri="http://schemas.openxmlformats.org/drawingml/2006/table">
            <a:tbl>
              <a:tblPr/>
              <a:tblGrid>
                <a:gridCol w="4370400"/>
              </a:tblGrid>
              <a:tr h="65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olds me tigh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isses me goodnight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when I’m m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elps me when I’m s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so sm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y he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loves me l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ties the kn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here to st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have until this very d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wish you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yes I can t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asked if I lie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if I’ve cri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oved away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in my heart to and will always stay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arniz Fatima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Picture 6" descr="http://www.raisingthearts.com/images/Sisters%20Journey%20big.jpg"/>
          <p:cNvPicPr/>
          <p:nvPr/>
        </p:nvPicPr>
        <p:blipFill>
          <a:blip r:embed="rId1"/>
          <a:stretch/>
        </p:blipFill>
        <p:spPr>
          <a:xfrm>
            <a:off x="52560" y="2133720"/>
            <a:ext cx="2322360" cy="321624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067A-ADBB-4A92-BF84-6F1EC092FA5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048120" y="380880"/>
          <a:ext cx="2792160" cy="6442200"/>
        </p:xfrm>
        <a:graphic>
          <a:graphicData uri="http://schemas.openxmlformats.org/drawingml/2006/table">
            <a:tbl>
              <a:tblPr/>
              <a:tblGrid>
                <a:gridCol w="398520"/>
                <a:gridCol w="2393640"/>
              </a:tblGrid>
              <a:tr h="644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760" rIns="41760" tIns="20880" bIns="20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verything you did or still d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matter what happen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e or to you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make it through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's Now or n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you will always know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AND AL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ough you may th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 your heart may s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ut sister always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LOVE YOU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I’m you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 don't cry or w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 even when you sl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ust dream happy drea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cause life's not always what it see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irl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 EVER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1" descr="C:\Documents and Settings\TwLab\Local Settings\Temporary Internet Files\Content.IE5\PDS1BFZB\MCj00894680000[1].wmf"/>
          <p:cNvPicPr/>
          <p:nvPr/>
        </p:nvPicPr>
        <p:blipFill>
          <a:blip r:embed="rId1"/>
          <a:stretch/>
        </p:blipFill>
        <p:spPr>
          <a:xfrm>
            <a:off x="838080" y="2362320"/>
            <a:ext cx="1779840" cy="121752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0BA6-D9F2-4A9F-878E-17FE4957D5C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2895480" y="228600"/>
          <a:ext cx="3429000" cy="6878520"/>
        </p:xfrm>
        <a:graphic>
          <a:graphicData uri="http://schemas.openxmlformats.org/drawingml/2006/table">
            <a:tbl>
              <a:tblPr/>
              <a:tblGrid>
                <a:gridCol w="266760"/>
                <a:gridCol w="3162240"/>
              </a:tblGrid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eads you when you are having a problem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laugh and cry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ikes to fight with you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the one who stands with you in all your ups and down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remember who you really are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sometimes makes you cry when they are very sa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is always there for you through all the laughter and tear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real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never will preten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like you whom I treasure everyday in my heart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6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1" descr="C:\Documents and Settings\TwLab\Local Settings\Temporary Internet Files\Content.IE5\XSF37IBG\MCj01160460000[1].wmf"/>
          <p:cNvPicPr/>
          <p:nvPr/>
        </p:nvPicPr>
        <p:blipFill>
          <a:blip r:embed="rId1"/>
          <a:stretch/>
        </p:blipFill>
        <p:spPr>
          <a:xfrm>
            <a:off x="380880" y="1143000"/>
            <a:ext cx="2743200" cy="407520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72B3-24A4-4813-B03F-3E898CE94BF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3034-ABB9-446B-B9CD-C623841F7D3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"/>
          <p:cNvSpPr/>
          <p:nvPr/>
        </p:nvSpPr>
        <p:spPr>
          <a:xfrm>
            <a:off x="1371600" y="129528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poems were chosen because they all related to my theme, and I thought they would be good for a tribute to sisters. I learned a 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1" descr=""/>
          <p:cNvPicPr/>
          <p:nvPr/>
        </p:nvPicPr>
        <p:blipFill>
          <a:blip r:embed="rId1"/>
          <a:stretch/>
        </p:blipFill>
        <p:spPr>
          <a:xfrm>
            <a:off x="920880" y="658800"/>
            <a:ext cx="7729560" cy="4827600"/>
          </a:xfrm>
          <a:prstGeom prst="rect">
            <a:avLst/>
          </a:prstGeom>
          <a:ln w="0">
            <a:noFill/>
          </a:ln>
        </p:spPr>
      </p:pic>
      <p:sp>
        <p:nvSpPr>
          <p:cNvPr id="37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BF5F-A7B9-42F3-A337-5DDAEE6DE87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1:03:27Z</dcterms:created>
  <dc:creator>ITSUser</dc:creator>
  <dc:description/>
  <dc:language>en-US</dc:language>
  <cp:lastModifiedBy>ITSUser</cp:lastModifiedBy>
  <dcterms:modified xsi:type="dcterms:W3CDTF">2009-05-13T21:26:48Z</dcterms:modified>
  <cp:revision>8</cp:revision>
  <dc:subject/>
  <dc:title>Slide 1</dc:title>
</cp:coreProperties>
</file>